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4311-32F6-48BF-8D83-C00A69E83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as born in Honolulu, Hawai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BlogCF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I do not use FW personally, but that it’s a very capable tool for the j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024800"/>
            <a:ext cx="8076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024800"/>
            <a:ext cx="3941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080" y="4024800"/>
            <a:ext cx="3941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0248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4480" y="40248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5800" y="40248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380880"/>
            <a:ext cx="8534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3520" y="4024800"/>
            <a:ext cx="3941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2080" y="4024800"/>
            <a:ext cx="3941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520" y="4024800"/>
            <a:ext cx="8076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520" y="4024800"/>
            <a:ext cx="8076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520" y="4024800"/>
            <a:ext cx="3941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2080" y="4024800"/>
            <a:ext cx="3941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3520" y="40248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64480" y="40248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95800" y="40248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520" y="380880"/>
            <a:ext cx="8534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024800"/>
            <a:ext cx="3941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080" y="4024800"/>
            <a:ext cx="3941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024800"/>
            <a:ext cx="8076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00"/>
              </a:spcBef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spcBef>
                <a:spcPts val="700"/>
              </a:spcBef>
              <a:buClr>
                <a:srgbClr val="b2b2b2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84520" indent="-41292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41720" indent="-412920">
              <a:spcBef>
                <a:spcPts val="700"/>
              </a:spcBef>
              <a:buClr>
                <a:srgbClr val="b2b2b2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41720" indent="-412920">
              <a:spcBef>
                <a:spcPts val="700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41720" indent="-412920">
              <a:spcBef>
                <a:spcPts val="700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069800" y="6450120"/>
            <a:ext cx="91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86F8-6DBF-4A76-AB77-C7D5E0B1983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5320" y="6450120"/>
            <a:ext cx="152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cfunited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3880" y="2209320"/>
            <a:ext cx="601992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685800" y="655308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40080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cfunited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2b2b2"/>
              </a:buClr>
              <a:buFont typeface="Arial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b2b2b2"/>
              </a:buClr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2209320"/>
            <a:ext cx="601992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sign to Deployment: Building a Blog Monitor with jQuery &amp; AI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523880" y="4495680"/>
            <a:ext cx="6096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Andy Matthews</a:t>
            </a:r>
            <a:endParaRPr b="0" lang="en-US" sz="24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 little about myself:</a:t>
            </a:r>
            <a:br>
              <a:rPr sz="2800"/>
            </a:b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 things you may know, and one you probably don’t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'm a Senior Web Developer for Dealerskins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'm the author of several open source ColdFusion libraries: PicasaCFC, and ShrinkU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released a jQuery-based AIR Application called Shrinkad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live in Nashville, TN with my wife, two children, and two do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’ve read The Hobbit 14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ssion overview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is to build a fully functional Blog monitor AIR app from start to finish in 45 minu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601"/>
              </a:spcBef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601"/>
              </a:spcBef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-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601"/>
              </a:spcBef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-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601"/>
              </a:spcBef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601"/>
              </a:spcBef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rcRect l="0" t="27172" r="0" b="0"/>
          <a:stretch/>
        </p:blipFill>
        <p:spPr>
          <a:xfrm>
            <a:off x="685800" y="4727520"/>
            <a:ext cx="82389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esig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 some Fireworks ba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new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, and style, shapes and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web sl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several export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Fireworks do the work, not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ent-sid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advantage of the Webkit 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Qu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jQuery sel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 bi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te AJAX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practices in looping over returne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DOM call vs 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315200" y="2895480"/>
            <a:ext cx="162576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rver-sid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d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ing up CFC for remote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ColdFusion 8/9 built in J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315200" y="2057400"/>
            <a:ext cx="164772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eploymen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r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if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by 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dge inst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adobe-air"/>
          <p:cNvPicPr/>
          <p:nvPr/>
        </p:nvPicPr>
        <p:blipFill>
          <a:blip r:embed="rId2"/>
          <a:stretch/>
        </p:blipFill>
        <p:spPr>
          <a:xfrm>
            <a:off x="6019920" y="1523880"/>
            <a:ext cx="2971800" cy="156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3520" y="2971800"/>
            <a:ext cx="80769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get star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3520" y="1905120"/>
            <a:ext cx="80769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stions? Comments? Snide remark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y matth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andymatthews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tter: commadelim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m: mydogna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19:57:04Z</dcterms:created>
  <dc:creator>liz</dc:creator>
  <dc:description/>
  <dc:language>en-US</dc:language>
  <cp:lastModifiedBy>andy matthews</cp:lastModifiedBy>
  <dcterms:modified xsi:type="dcterms:W3CDTF">2009-08-12T03:55:21Z</dcterms:modified>
  <cp:revision>66</cp:revision>
  <dc:subject/>
  <dc:title>PowerPoint Presentation</dc:title>
</cp:coreProperties>
</file>